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B30-1C78-4DD4-B3EE-E982C69A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A2B-FABD-4F16-82AB-969B22B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771-F781-4497-B157-2D48FF3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B0D-0A5A-467A-9D8E-12312AC4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B74-1711-4EEC-8AB8-542507A4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034-AB32-4F81-BB95-82B2267A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C6B-3FB3-4E93-81A8-3C77D267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0DC-4455-4075-81D5-FBB37F6B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402-F8DB-4587-8B78-8DB794E0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45B-E438-4660-9B76-840C403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016-C932-42C4-84C5-5B0B2C1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C97-6B78-490E-9EFD-F25B79C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0AC-CC92-40FD-B495-460E7229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35:21Z</dcterms:created>
  <dc:creator> </dc:creator>
  <dc:description/>
  <dc:language>en-US</dc:language>
  <cp:lastModifiedBy> </cp:lastModifiedBy>
  <dcterms:modified xsi:type="dcterms:W3CDTF">2009-03-10T12:35:35Z</dcterms:modified>
  <cp:revision>1</cp:revision>
  <dc:subject/>
  <dc:title>Slide 1</dc:title>
</cp:coreProperties>
</file>